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835-D4A0-4272-8276-73E2C069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B6DE-A8CE-4BE4-B2A6-90F257D6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EF6A-0029-4B76-BD1E-A6CD78F7F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70CA-49BF-44CF-B01E-1BE53CEE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8BA8-EEFB-440A-9184-3570852B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D099-60CF-49D0-9BB0-4652E94E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188A-B034-4AF1-B789-D5B1317D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F035-4BA7-4FEE-9481-AB585B73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FAE-32F9-4C9F-8FDA-725E7528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033-011A-4502-AE1B-3CEE2AFD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CEEF-368C-4FE7-BC15-F55BB4456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8B59-70DC-4480-ADA4-B2280B6D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EF4B-F402-4227-A609-DC9E61C2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ncbi.nlm.nih.gov/pubmed/21281114" TargetMode="External"/><Relationship Id="rId4" Type="http://schemas.openxmlformats.org/officeDocument/2006/relationships/hyperlink" Target="http://www.ncbi.nlm.nih.gov/pubmed?term=%22Sudini%20H%22%5BAuthor%5D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2286000"/>
            <a:ext cx="8382240" cy="22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PR in Groundnut: Opportunities and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i K. Sudin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.L.L. Gowd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M.S.Redd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tional Crops Research Institute for the Semi Arid Tropics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of Entomology and Plant Pathology, Auburn University,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685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bial Ecology in Groundnut Ecosystems with reference to 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1873080"/>
            <a:ext cx="6705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S rRNA gene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8 different rRNA genes from each soil sample were sequenced using Rolling Circle Amplification of plasmid DNA and unidirectional sequencing with a vector primer (Symbio Corp., 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al level allocation was annotated based upon BLASTn analysis with the nr/nt GenBank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PR 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Chart 4" descr=""/>
          <p:cNvPicPr/>
          <p:nvPr/>
        </p:nvPicPr>
        <p:blipFill>
          <a:blip r:embed="rId3"/>
          <a:stretch/>
        </p:blipFill>
        <p:spPr>
          <a:xfrm>
            <a:off x="2054160" y="1670040"/>
            <a:ext cx="5492880" cy="40482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83808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sional level affiliation of bacterial groups in Groundnut ecosystems (Sudini et al.,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91440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terial divisions in peanut rotation sequences (Sudini et al.,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228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PR 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Content Placeholder 5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04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GPR 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Chart 4" descr=""/>
          <p:cNvPicPr/>
          <p:nvPr/>
        </p:nvPicPr>
        <p:blipFill>
          <a:blip r:embed="rId3"/>
          <a:stretch/>
        </p:blipFill>
        <p:spPr>
          <a:xfrm>
            <a:off x="530280" y="1676520"/>
            <a:ext cx="3663720" cy="4038480"/>
          </a:xfrm>
          <a:prstGeom prst="rect">
            <a:avLst/>
          </a:prstGeom>
          <a:ln w="0">
            <a:noFill/>
          </a:ln>
        </p:spPr>
      </p:pic>
      <p:pic>
        <p:nvPicPr>
          <p:cNvPr id="174" name="Chart 3" descr=""/>
          <p:cNvPicPr/>
          <p:nvPr/>
        </p:nvPicPr>
        <p:blipFill>
          <a:blip r:embed="rId4"/>
          <a:stretch/>
        </p:blipFill>
        <p:spPr>
          <a:xfrm>
            <a:off x="4791240" y="1752480"/>
            <a:ext cx="3902040" cy="3962520"/>
          </a:xfrm>
          <a:prstGeom prst="rect">
            <a:avLst/>
          </a:prstGeom>
          <a:ln w="0">
            <a:noFill/>
          </a:ln>
        </p:spPr>
      </p:pic>
      <p:sp>
        <p:nvSpPr>
          <p:cNvPr id="175" name="Title 1"/>
          <p:cNvSpPr/>
          <p:nvPr/>
        </p:nvSpPr>
        <p:spPr>
          <a:xfrm>
            <a:off x="685800" y="8380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elations between bacterial divisions (Sudini et al., 20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5800" y="1752480"/>
            <a:ext cx="594360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ce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vironmental DNA extraction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genomic library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throughput sequenc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contributions to 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scovery of novel PGPR genes and gen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haracterization of not-yet cultivable PGP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600200" cy="5029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24480" y="5638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annah  Green Tringe and Edward M. Rubin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90920" y="838080"/>
            <a:ext cx="35049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genomics-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9907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benefits with reference to Groundnut rhizosphere 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2590920"/>
            <a:ext cx="63244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biologically different PGPR communities associated with Groundnut eco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ights into “inaccessible” 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tors responsible for disease suppressiv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838080" y="10666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752480"/>
            <a:ext cx="670536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burden of arid and semi-arid lan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ated temperature, CO2, Erratic weather, floods, drou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R could be a viable o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pt proved in model pla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rabidopsi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hen et al., 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on of plant tolerance to semi-arid enviro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ess relievers-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838080"/>
            <a:ext cx="3657600" cy="45972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-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06668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176480" y="1484280"/>
            <a:ext cx="6789600" cy="38894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724280" y="586728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. Aroca and J.M. Ruiz-Lozano,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R modify plant hormonal contents in order to increase drought 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10666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19320" y="914400"/>
            <a:ext cx="6781680" cy="459720"/>
          </a:xfrm>
          <a:prstGeom prst="rect">
            <a:avLst/>
          </a:prstGeom>
          <a:solidFill>
            <a:srgbClr val="ecb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action of Rhizobial and PGPR st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90720" y="1981080"/>
            <a:ext cx="708660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ortant area of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-inoculation (PGPR strains + Rhizob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ulation promoting rhizobacteria (NPR, Kloepper et al., 199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enhancement (Madhaiyan et al 2006, Vikram et al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ct mechanisms still need to be explo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38080" y="10666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2209680"/>
            <a:ext cx="7086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dictory reports on Induced Systemic Res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ction between associative PGPR and Groundnut un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ibility obstacles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 vit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field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luence of environmental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8380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for Groundnut PGP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6858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p five producers of Groundnut and their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6680" y="1752480"/>
          <a:ext cx="6934320" cy="3657600"/>
        </p:xfrm>
        <a:graphic>
          <a:graphicData uri="http://schemas.openxmlformats.org/drawingml/2006/table">
            <a:tbl>
              <a:tblPr/>
              <a:tblGrid>
                <a:gridCol w="1265400"/>
                <a:gridCol w="2773440"/>
                <a:gridCol w="289548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otic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iotic constrai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 Chi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terial wilt, Leaf spots, Stem r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ught,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m rot, Leaf spots, GBNV, TS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ught, temperature, soil 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SWV, RKN, White mold, Leaf spots (ELS/LL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 and heat str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f spots, GR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ught,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ones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f spots, stem r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ought, tempera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914400" y="5486400"/>
            <a:ext cx="7315200" cy="8380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. flav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fection and subsequ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latoxin contamination is a worldwide qualitative 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10666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533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y Forward/Future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1219320"/>
            <a:ext cx="6858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understanding of Plant-PGPR inter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ight into PGPR mode of actions and adaptability to extreme environmental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ys and means for better utilization of PGPR in the farmer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GPR &amp; Omics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onal Research on PGPR: From “Omics to the Fie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838080" y="106668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981080" y="2590920"/>
            <a:ext cx="4800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041560" y="5265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1600" y="1447920"/>
            <a:ext cx="243828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286000"/>
            <a:ext cx="3429000" cy="838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roduction of plant growth regulator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Kishore et al., 2005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y et al. 200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5257800"/>
            <a:ext cx="3429000" cy="7621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ot coloniz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ishore et al. 200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4120" y="1447920"/>
            <a:ext cx="243828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352680"/>
            <a:ext cx="3429000" cy="6098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trogen fix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PR, Kloepper et al., 199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4267080"/>
            <a:ext cx="3429000" cy="76212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take of minera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ncrease in available 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y et al 2004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2362320"/>
            <a:ext cx="373356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vent the deleterious effect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ytopathogens (Anjaiah et al. 2006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d-Allah and El Didamony 200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09680" y="533520"/>
            <a:ext cx="4648320" cy="6094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PR Growth Promo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chanisms in Ground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657600"/>
            <a:ext cx="3733560" cy="10666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R (Prim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ve-Maria Laura Tonelli et al.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gative-Zhang et al.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1143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438280" y="205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17524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205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1066680"/>
            <a:ext cx="7315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76520" y="9144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nut PGPR Research @ ICRI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1905120"/>
            <a:ext cx="784872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control-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harvest aflatoxin contamination in Ground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uoresce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eudomona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acillu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rains (Anjaia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leaf spot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tinolytic bacteria (Kish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lorothalonil-tolerant endophytic isolates of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eudomonas aerugino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ish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r rot disease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seudomonas aeruginos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E 18 (Kisho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t al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68580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portunities/Thrust area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nut PGP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657600"/>
            <a:ext cx="6476760" cy="120276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te Change-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-input agricultural produ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sive agricultural produc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1828800"/>
            <a:ext cx="647676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bial Ecology-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743200"/>
            <a:ext cx="64767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genomics-PG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5257800"/>
            <a:ext cx="6476760" cy="785520"/>
          </a:xfrm>
          <a:prstGeom prst="rect">
            <a:avLst/>
          </a:prstGeom>
          <a:solidFill>
            <a:srgbClr val="ecb2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 of Rhizobial and PGPR str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"/>
          <p:cNvSpPr/>
          <p:nvPr/>
        </p:nvSpPr>
        <p:spPr>
          <a:xfrm>
            <a:off x="2209680" y="2971800"/>
            <a:ext cx="449604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GPR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766800" y="1676520"/>
            <a:ext cx="2286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ltivation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791320" y="175248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il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3124080" y="5486400"/>
            <a:ext cx="28958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nt community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Up Arrow 15"/>
          <p:cNvSpPr/>
          <p:nvPr/>
        </p:nvSpPr>
        <p:spPr>
          <a:xfrm>
            <a:off x="4267080" y="4419720"/>
            <a:ext cx="484200" cy="1054080"/>
          </a:xfrm>
          <a:prstGeom prst="upArrow">
            <a:avLst>
              <a:gd name="adj1" fmla="val 23046"/>
              <a:gd name="adj2" fmla="val 5001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p Arrow 25"/>
          <p:cNvSpPr/>
          <p:nvPr/>
        </p:nvSpPr>
        <p:spPr>
          <a:xfrm rot="8529600">
            <a:off x="2255400" y="2178000"/>
            <a:ext cx="484200" cy="1062000"/>
          </a:xfrm>
          <a:prstGeom prst="upArrow">
            <a:avLst>
              <a:gd name="adj1" fmla="val 20694"/>
              <a:gd name="adj2" fmla="val 5006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Up Arrow 24"/>
          <p:cNvSpPr/>
          <p:nvPr/>
        </p:nvSpPr>
        <p:spPr>
          <a:xfrm rot="13790400">
            <a:off x="6114600" y="2117160"/>
            <a:ext cx="484200" cy="1128600"/>
          </a:xfrm>
          <a:prstGeom prst="upArrow">
            <a:avLst>
              <a:gd name="adj1" fmla="val 23093"/>
              <a:gd name="adj2" fmla="val 5991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685800"/>
            <a:ext cx="3962520" cy="45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bi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y-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2120" y="1219320"/>
            <a:ext cx="78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"/>
          <p:cNvSpPr/>
          <p:nvPr/>
        </p:nvSpPr>
        <p:spPr>
          <a:xfrm>
            <a:off x="914400" y="7621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hods to assess PGPR community structure and diver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228600" y="1219320"/>
            <a:ext cx="289548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w-resolution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3200400" y="1219320"/>
            <a:ext cx="28195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mediate-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095880" y="1219320"/>
            <a:ext cx="289584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gh-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228600" y="1676520"/>
            <a:ext cx="289548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terial counts/plat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crobial biomas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200400" y="1676520"/>
            <a:ext cx="281952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ty-level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ysiological profiling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CLP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hospholipid fatty acid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sis (PLF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tty acid methyl ester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nalysis (F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GGE/TG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S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-RF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6095880" y="1676520"/>
            <a:ext cx="2895840" cy="358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ISA/AR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DRA &amp; T-AR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oning &amp; 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gen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xonomic micro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 rot="10800000">
            <a:off x="379080" y="5638320"/>
            <a:ext cx="852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techniques have their own limitations but the information obtained from complex environmental samples is more importa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4792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bial Ecology in Groundnut Ecosystems with reference to 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371920"/>
            <a:ext cx="8839440" cy="946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hytopathology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2011 Jul;101(7):819-2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loring soil bacterial communities in different peanut-cropping sequences using multiple molecular approach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dini H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, Liles MR, Arias CR, Bowen KL, Huettel R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600200"/>
            <a:ext cx="74678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l genomic DNA from rhizospher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amplification with universal bacterial specific primers (ITSF &amp; ITSR eu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amplicons were run on the  NEN Global Edition Li-Cor 4300 DNA Seque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ities up to (90%) between profiles of same cropping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of sampling has more profound effect on bacterial community group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ilarities and dissimilarities are attributed to crop diversity and time of samp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041560" y="5141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8610480" cy="762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838080" y="9144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685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bial Ecology in Groundnut Ecosystems with reference to PGP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828800"/>
            <a:ext cx="685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-Cloning and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S rRNA library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amplification of genomic D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al bacterial primers (27F and 1492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R product purification by Centrifugation (Wizard SV Gel and PCR Clean-Up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ated into a TOPO-TA pCR2.1 v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 col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were grown on LB agar plates containing 25 microgram per ml kanamy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04:57:01Z</dcterms:created>
  <dc:creator>Rohini</dc:creator>
  <dc:description/>
  <dc:language>en-US</dc:language>
  <cp:lastModifiedBy>calibra</cp:lastModifiedBy>
  <dcterms:modified xsi:type="dcterms:W3CDTF">2011-08-21T14:26:30Z</dcterms:modified>
  <cp:revision>379</cp:revision>
  <dc:subject/>
  <dc:title>Slide 1</dc:title>
</cp:coreProperties>
</file>