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260800" cy="34747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C663-5985-4F31-A0E9-11AF0BFF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0AE0-E3D8-4630-B718-D1B9EAD8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1A12-83BF-47D1-A73D-0D64F5ED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3665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271160" y="810684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619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3665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271160" y="20084760"/>
            <a:ext cx="84801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B969-83B9-441E-AE0B-429CFD838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B0E3-E4EE-4A59-AF6A-9E252DB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BE1-4342-44BF-9CCD-86C250AF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DDC8-659F-4A68-A28D-F9EF3D1A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3429-509A-46C5-819F-89EE396F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61960" y="1390320"/>
            <a:ext cx="26336880" cy="2684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7D8B-6151-4822-96CF-8F85AF98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B9C0-49A3-423F-8734-D5B6635E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957280" y="2008476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699-40C0-4A50-80B8-0337408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6196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4957280" y="8106840"/>
            <a:ext cx="1285236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61960" y="20084760"/>
            <a:ext cx="26336880" cy="109382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79D-3D06-4364-9713-98E5A08B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61960" y="1390320"/>
            <a:ext cx="26336880" cy="5791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61960" y="8106840"/>
            <a:ext cx="26336880" cy="2293164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6160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996480" y="31642200"/>
            <a:ext cx="926784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0968920" y="31642200"/>
            <a:ext cx="6829560" cy="24127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BD23A854-B723-45F6-9237-AC6FA8C24DFC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package" Target="../embeddings/oleObject1.xlsx"/><Relationship Id="rId11" Type="http://schemas.openxmlformats.org/officeDocument/2006/relationships/image" Target="../media/image10.wmf"/><Relationship Id="rId12" Type="http://schemas.openxmlformats.org/officeDocument/2006/relationships/package" Target="../embeddings/oleObject2.xlsx"/><Relationship Id="rId13" Type="http://schemas.openxmlformats.org/officeDocument/2006/relationships/image" Target="../media/image11.wmf"/><Relationship Id="rId1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9260800" cy="2983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66"/>
                </a:solidFill>
                <a:latin typeface="Book Antiqua"/>
              </a:rPr>
              <a:t>Biocontrol bacteria and actinomycetes, evaluation of their secondary metabolites against fungal pathogens and insectpest of chickpea</a:t>
            </a:r>
            <a:r>
              <a:rPr b="0" lang="en-US" sz="5400" spc="-1" strike="noStrike">
                <a:solidFill>
                  <a:srgbClr val="660066"/>
                </a:solidFill>
                <a:latin typeface="Book Antiqua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ff"/>
                </a:solidFill>
                <a:latin typeface="Book Antiqua"/>
              </a:rPr>
              <a:t>                                                                                               </a:t>
            </a: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Meesala Sree Vidya</a:t>
            </a:r>
            <a:r>
              <a:rPr b="1" lang="en-US" sz="4000" spc="-1" strike="noStrike" baseline="30000">
                <a:solidFill>
                  <a:srgbClr val="cc0066"/>
                </a:solidFill>
                <a:latin typeface="Book Antiqua"/>
              </a:rPr>
              <a:t>1</a:t>
            </a: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 and S Gopalakrishnan</a:t>
            </a:r>
            <a:r>
              <a:rPr b="1" lang="en-US" sz="4000" spc="-1" strike="noStrike" baseline="30000">
                <a:solidFill>
                  <a:srgbClr val="cc0066"/>
                </a:solidFill>
                <a:latin typeface="Book Antiqu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Book Antiqua"/>
              </a:rPr>
              <a:t>1-Jawaharlal Nehru Technological University, Hyderabad; 2- International Crops Research Institute for the Semi Arid Tropics, Patanche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411080" y="32156280"/>
            <a:ext cx="1508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i="1" lang="en-US" sz="3200" spc="-1" strike="noStrike">
                <a:solidFill>
                  <a:srgbClr val="009999"/>
                </a:solidFill>
                <a:latin typeface="Book Antiqua"/>
              </a:rPr>
              <a:t>*Corresponding author</a:t>
            </a:r>
            <a:r>
              <a:rPr b="1" i="1" lang="en-US" sz="3200" spc="-1" strike="noStrike">
                <a:solidFill>
                  <a:srgbClr val="9900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cc0066"/>
                </a:solidFill>
                <a:latin typeface="Book Antiqua"/>
              </a:rPr>
              <a:t>M. Sree Vidya,</a:t>
            </a:r>
            <a:r>
              <a:rPr b="1" i="1" lang="en-US" sz="3200" spc="-1" strike="noStrike">
                <a:solidFill>
                  <a:srgbClr val="9900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009999"/>
                </a:solidFill>
                <a:latin typeface="Book Antiqua"/>
              </a:rPr>
              <a:t>Email:</a:t>
            </a:r>
            <a:r>
              <a:rPr b="1" i="1" lang="en-US" sz="3200" spc="-1" strike="noStrike">
                <a:solidFill>
                  <a:srgbClr val="9900ff"/>
                </a:solidFill>
                <a:latin typeface="Book Antiqua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Book Antiqua"/>
              </a:rPr>
              <a:t>vidya.meesala@gmail.com</a:t>
            </a:r>
            <a:r>
              <a:rPr b="1" i="1" lang="en-US" sz="3200" spc="-1" strike="noStrike">
                <a:solidFill>
                  <a:srgbClr val="cc0066"/>
                </a:solidFill>
                <a:latin typeface="Book Antiqu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17200" y="12801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9880" y="12953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3563720"/>
            <a:ext cx="292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0" y="15147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40" y="17202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0" y="19278000"/>
            <a:ext cx="44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15075720"/>
            <a:ext cx="52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0" y="17217360"/>
            <a:ext cx="59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40" y="193683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2833280"/>
            <a:ext cx="29260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0" y="148899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" y="172314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00" y="1957320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4114800"/>
            <a:ext cx="12078000" cy="9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In the present investigation antagonistic and entomopathogenic bacteria and actinomycetes against important fungal pathogens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Sclerotium rolfsii, Fusarium oxysporum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f. sp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ciceri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FOC),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Rhizoctonia bataticola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3 strains, RB-6, -24 and -115)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Fusarium andiyazi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FM943),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Fusarium proliferatum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FM-242)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Macrophomina phaseolina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(MP) and insectpest of chickpea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Helicoverpa armigera,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were stu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It is well known that bacteria and actinomycetes found most common in compost and rhizosphere soils. Hence five different herbal vermicompost such as Neem,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Annona, Gliricidia, Jatropha, Parthenium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and rhizosphere soils from organic fields were selected for isolating the microb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Bacteria and actinomycetes isolated from above sources were characterized for their antagonistic activity against fugal pathogens and insect pests of chickpea. Most potential cultures will be further characterized for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in-vitro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PGP and biocontro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16799040"/>
            <a:ext cx="251460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Charcoal 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53080" y="2226456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Dry root 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1800" y="2971440"/>
            <a:ext cx="1333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Book Antiqua"/>
                <a:ea typeface="MS PGothic"/>
              </a:rPr>
              <a:t>Different bacterial isolates inhibiting fungal pathoge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12908160"/>
            <a:ext cx="1226844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  <a:ea typeface="MS PGothic"/>
              </a:rPr>
              <a:t>Objective</a:t>
            </a:r>
            <a:r>
              <a:rPr b="1" lang="en-US" sz="5400" spc="-1" strike="noStrike">
                <a:solidFill>
                  <a:srgbClr val="cc0066"/>
                </a:solidFill>
                <a:latin typeface="Book Antiqua"/>
                <a:ea typeface="MS PGothic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The main objective of the present investigation is to isolate and identify the active compounds responsible for the inhibition of the fungal pathogens and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H. armigera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from the potential antagonistic microbes and entomo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335120" y="23134680"/>
            <a:ext cx="14249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Results and Discu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Out of 88 actinomycetes isolated, 55, 45, 58 and 37 isolates inhibited MP, Rb-6, Rb-24 and Rb-115 respectively;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33, 36, 13 and 13 isolates inhibited FOC, FM-242, FM-943 and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S. rolfsii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respec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From 72 bacteria isolated, 28, 25, 29 and 10 isolates inhibited MP, Rb-6, Rb-24 and Rb-115 respectively;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31, 31, 5 and 22 isolates inhibited FOC, FM-242, FM-943 and </a:t>
            </a:r>
            <a:r>
              <a:rPr b="0" i="1" lang="en-US" sz="3200" spc="-1" strike="noStrike">
                <a:solidFill>
                  <a:srgbClr val="0000cc"/>
                </a:solidFill>
                <a:latin typeface="Book Antiqua"/>
              </a:rPr>
              <a:t>S. rolfsii</a:t>
            </a: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 resp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The most promising isolates (20) were further evaluated for their PGP and biocontrol traits. The results indicated that xx, xx and xx were shown positive for chitinase, protease, lipase, respectiv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8080" y="22285440"/>
            <a:ext cx="3276720" cy="9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5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Botrytis gray m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46960"/>
            <a:ext cx="29260800" cy="1222920"/>
          </a:xfrm>
          <a:prstGeom prst="rect">
            <a:avLst/>
          </a:prstGeom>
          <a:solidFill>
            <a:srgbClr val="009a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4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ff9900"/>
                </a:solidFill>
                <a:latin typeface="Book Antiqua"/>
              </a:rPr>
              <a:t>          </a:t>
            </a:r>
            <a:endParaRPr b="0" lang="en-US" sz="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28095480"/>
            <a:ext cx="1234440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Bacteria and actinomycetes were isolated from five herbal vermicomposts and rhizosphere soil from organic field by serial dilution meth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Antagonistic activity of the cultures were evaluated by dual culture ass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buClr>
                <a:srgbClr val="0000cc"/>
              </a:buClr>
              <a:buFont typeface="Book Antiqua"/>
              <a:buChar char="•"/>
              <a:tabLst>
                <a:tab algn="l" pos="3657600"/>
                <a:tab algn="l" pos="73152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The promising antagonistic cultures were further characterized for their PGP and biochemical tra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57"/>
          <p:cNvSpPr/>
          <p:nvPr/>
        </p:nvSpPr>
        <p:spPr>
          <a:xfrm>
            <a:off x="0" y="32994720"/>
            <a:ext cx="29260800" cy="17524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" descr=""/>
          <p:cNvPicPr/>
          <p:nvPr/>
        </p:nvPicPr>
        <p:blipFill>
          <a:blip r:embed="rId1"/>
          <a:srcRect l="0" t="12782" r="0" b="0"/>
          <a:stretch/>
        </p:blipFill>
        <p:spPr>
          <a:xfrm>
            <a:off x="7894800" y="33070680"/>
            <a:ext cx="13439520" cy="16225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764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Book Antiqua"/>
              </a:rPr>
              <a:t>Fusarium w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849000"/>
            <a:ext cx="1196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  <a:ea typeface="MS PGothic"/>
              </a:rPr>
              <a:t>Various fungal diseases of Chickpe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2120" y="17297280"/>
            <a:ext cx="3192480" cy="4953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38080" y="22860000"/>
            <a:ext cx="3121200" cy="4876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089760" y="17373600"/>
            <a:ext cx="3054240" cy="480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5935680" y="22860000"/>
            <a:ext cx="3208320" cy="49528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23850720" y="3976560"/>
            <a:ext cx="3124080" cy="3110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20497680" y="3962520"/>
            <a:ext cx="304344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17297280" y="3962520"/>
            <a:ext cx="313056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14173200" y="3962520"/>
            <a:ext cx="2868480" cy="320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478120" y="10210680"/>
          <a:ext cx="6781680" cy="3675240"/>
        </p:xfrm>
        <a:graphic>
          <a:graphicData uri="http://schemas.openxmlformats.org/presentationml/2006/ole">
            <p:oleObj progId="Excel.Sheet.12" r:id="rId10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4478120" y="10210680"/>
                    <a:ext cx="678168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14249520" y="14935320"/>
          <a:ext cx="12191760" cy="6035400"/>
        </p:xfrm>
        <a:graphic>
          <a:graphicData uri="http://schemas.openxmlformats.org/presentationml/2006/ole">
            <p:oleObj progId="Excel.Sheet.12" r:id="rId1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49520" y="14935320"/>
                    <a:ext cx="1219176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14020920" y="7288560"/>
            <a:ext cx="281916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FM-943 Vs SBI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145000" y="7274520"/>
            <a:ext cx="304812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FOC V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SBI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497680" y="7274520"/>
            <a:ext cx="327672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Rb-6 V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SBI-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003000" y="7274520"/>
            <a:ext cx="3276720" cy="1068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66"/>
                </a:solidFill>
                <a:latin typeface="Book Antiqua"/>
              </a:rPr>
              <a:t>S. rolfsii</a:t>
            </a: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 V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Book Antiqua"/>
              </a:rPr>
              <a:t>VBI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182480" y="29094120"/>
            <a:ext cx="1470672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Book Antiqua"/>
              </a:rPr>
              <a:t>Futur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Purification of active compound (s) from the culture filt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Physiological characteristics of the promising cul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cc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Book Antiqua"/>
              </a:rPr>
              <a:t>Green house and field evaluation of the promising cultures and their metaboli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406760" y="9244440"/>
            <a:ext cx="148201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Book Antiqua"/>
              </a:rPr>
              <a:t>No of actinomycetes isolates antogonistic to different fung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44600" y="14262480"/>
            <a:ext cx="14249520" cy="58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Book Antiqua"/>
              </a:rPr>
              <a:t>No of bacterial isolates antogonistic to different fungal patho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03:04:54Z</dcterms:created>
  <dc:creator>Pvsprasad</dc:creator>
  <dc:description/>
  <dc:language>en-US</dc:language>
  <cp:lastModifiedBy>sgopalakrishnan</cp:lastModifiedBy>
  <dcterms:modified xsi:type="dcterms:W3CDTF">2011-11-29T04:09:29Z</dcterms:modified>
  <cp:revision>233</cp:revision>
  <dc:subject/>
  <dc:title>Exploring soil biology to understand high yields due to SRI method of cultivation</dc:title>
</cp:coreProperties>
</file>