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260800" cy="34747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CD22-F636-44B4-AB3B-F71AFB51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61960" y="8106840"/>
            <a:ext cx="2633688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61960" y="20084760"/>
            <a:ext cx="2633688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88B0-3DC3-42FE-BF48-7F8E640F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61960" y="810684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957280" y="810684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61960" y="2008476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957280" y="2008476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E97C-D29A-4616-8D14-D1E6B428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61960" y="8106840"/>
            <a:ext cx="84801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366560" y="8106840"/>
            <a:ext cx="84801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271160" y="8106840"/>
            <a:ext cx="84801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61960" y="20084760"/>
            <a:ext cx="84801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366560" y="20084760"/>
            <a:ext cx="84801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271160" y="20084760"/>
            <a:ext cx="84801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96AB-96C9-4E2A-A8E5-BBC9410EF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61960" y="8106840"/>
            <a:ext cx="26336880" cy="229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1E96-2319-455D-97EA-E79DBBD1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61960" y="8106840"/>
            <a:ext cx="26336880" cy="22931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1E4F-3831-4814-9552-1CF87D36A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61960" y="8106840"/>
            <a:ext cx="12852360" cy="22931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957280" y="8106840"/>
            <a:ext cx="12852360" cy="22931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E6A8-1F1B-4B1A-92F4-12279397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C861-F372-44D6-BBC3-9EF3212A6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61960" y="1390320"/>
            <a:ext cx="26336880" cy="268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B010-C089-45E2-9006-636B669E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61960" y="810684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957280" y="8106840"/>
            <a:ext cx="12852360" cy="22931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61960" y="2008476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C051-99BA-475A-A409-62BDF196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61960" y="8106840"/>
            <a:ext cx="12852360" cy="22931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957280" y="810684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957280" y="2008476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1F78-67C8-4BC0-B22A-EB6B00E3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61960" y="810684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957280" y="810684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61960" y="20084760"/>
            <a:ext cx="2633688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D2C8-B1C1-44D1-91BB-92EFF27E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17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61960" y="8106840"/>
            <a:ext cx="26336880" cy="22931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marL="1371600" indent="-13716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1" marL="2971800" indent="-11430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2" marL="4572000" indent="-9144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3" marL="6400800" indent="-9144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4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5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6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61600" y="31642200"/>
            <a:ext cx="6829560" cy="2412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996480" y="31642200"/>
            <a:ext cx="9267840" cy="2412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 algn="ctr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0968920" y="31642200"/>
            <a:ext cx="6829560" cy="2412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 algn="r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657600"/>
                <a:tab algn="l" pos="7315200"/>
              </a:tabLst>
            </a:pPr>
            <a:fld id="{BF9BEE70-E146-45B6-BAD8-9769FFB0996F}" type="slidenum">
              <a:rPr b="0" lang="en-US" sz="5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package" Target="../embeddings/oleObject1.xlsx"/><Relationship Id="rId11" Type="http://schemas.openxmlformats.org/officeDocument/2006/relationships/image" Target="../media/image10.wmf"/><Relationship Id="rId12" Type="http://schemas.openxmlformats.org/officeDocument/2006/relationships/package" Target="../embeddings/oleObject2.xlsx"/><Relationship Id="rId13" Type="http://schemas.openxmlformats.org/officeDocument/2006/relationships/image" Target="../media/image11.wmf"/><Relationship Id="rId1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29260800" cy="2983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Book Antiqua"/>
              </a:rPr>
              <a:t>Biocontrol bacteria and actinomycetes, evaluation of their secondary metabolites against fungal pathogens and insectpest of chickpea</a:t>
            </a:r>
            <a:r>
              <a:rPr b="0" lang="en-US" sz="5400" spc="-1" strike="noStrike">
                <a:solidFill>
                  <a:srgbClr val="660066"/>
                </a:solidFill>
                <a:latin typeface="Book Antiqu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Book Antiqua"/>
              </a:rPr>
              <a:t>                                                                                               </a:t>
            </a:r>
            <a:r>
              <a:rPr b="1" lang="en-US" sz="4000" spc="-1" strike="noStrike">
                <a:solidFill>
                  <a:srgbClr val="cc0066"/>
                </a:solidFill>
                <a:latin typeface="Book Antiqua"/>
              </a:rPr>
              <a:t>Meesala Sree Vidya</a:t>
            </a:r>
            <a:r>
              <a:rPr b="1" lang="en-US" sz="4000" spc="-1" strike="noStrike" baseline="30000">
                <a:solidFill>
                  <a:srgbClr val="cc0066"/>
                </a:solidFill>
                <a:latin typeface="Book Antiqua"/>
              </a:rPr>
              <a:t>1</a:t>
            </a:r>
            <a:r>
              <a:rPr b="1" lang="en-US" sz="4000" spc="-1" strike="noStrike">
                <a:solidFill>
                  <a:srgbClr val="cc0066"/>
                </a:solidFill>
                <a:latin typeface="Book Antiqua"/>
              </a:rPr>
              <a:t> and S Gopalakrishnan</a:t>
            </a:r>
            <a:r>
              <a:rPr b="1" lang="en-US" sz="4000" spc="-1" strike="noStrike" baseline="30000">
                <a:solidFill>
                  <a:srgbClr val="cc0066"/>
                </a:solidFill>
                <a:latin typeface="Book Antiqu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Book Antiqua"/>
              </a:rPr>
              <a:t>1-Jawaharlal Nehru Technological University, Hyderabad; 2- International Crops Research Institute for the Semi Arid Tropics, Patanche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411080" y="32156280"/>
            <a:ext cx="1508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Book Antiqua"/>
              </a:rPr>
              <a:t>*Corresponding author</a:t>
            </a:r>
            <a:r>
              <a:rPr b="1" i="1" lang="en-US" sz="3200" spc="-1" strike="noStrike">
                <a:solidFill>
                  <a:srgbClr val="9900ff"/>
                </a:solidFill>
                <a:latin typeface="Book Antiqua"/>
              </a:rPr>
              <a:t> </a:t>
            </a:r>
            <a:r>
              <a:rPr b="1" i="1" lang="en-US" sz="3200" spc="-1" strike="noStrike">
                <a:solidFill>
                  <a:srgbClr val="cc0066"/>
                </a:solidFill>
                <a:latin typeface="Book Antiqua"/>
              </a:rPr>
              <a:t>M. Sree Vidya,</a:t>
            </a:r>
            <a:r>
              <a:rPr b="1" i="1" lang="en-US" sz="3200" spc="-1" strike="noStrike">
                <a:solidFill>
                  <a:srgbClr val="9900ff"/>
                </a:solidFill>
                <a:latin typeface="Book Antiqua"/>
              </a:rPr>
              <a:t> </a:t>
            </a:r>
            <a:r>
              <a:rPr b="1" i="1" lang="en-US" sz="3200" spc="-1" strike="noStrike">
                <a:solidFill>
                  <a:srgbClr val="009999"/>
                </a:solidFill>
                <a:latin typeface="Book Antiqua"/>
              </a:rPr>
              <a:t>Email:</a:t>
            </a:r>
            <a:r>
              <a:rPr b="1" i="1" lang="en-US" sz="3200" spc="-1" strike="noStrike">
                <a:solidFill>
                  <a:srgbClr val="9900ff"/>
                </a:solidFill>
                <a:latin typeface="Book Antiqua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Book Antiqua"/>
              </a:rPr>
              <a:t>vidya.meesala@gmail.com</a:t>
            </a:r>
            <a:r>
              <a:rPr b="1" i="1" lang="en-US" sz="3200" spc="-1" strike="noStrike">
                <a:solidFill>
                  <a:srgbClr val="cc00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317200" y="12801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9880" y="12953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3563720"/>
            <a:ext cx="2926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0" y="15147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40" y="172029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0" y="1927800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1507572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0" y="17217360"/>
            <a:ext cx="59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0" y="193683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2833280"/>
            <a:ext cx="2926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0" y="148899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00" y="172314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00" y="195732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4114800"/>
            <a:ext cx="12078000" cy="9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3657600"/>
                <a:tab algn="l" pos="73152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Book Antiqua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0000cc"/>
              </a:buClr>
              <a:buFont typeface="Book Antiqua"/>
              <a:buChar char="•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In the present investigation antagonistic and entomopathogenic bacteria and actinomycetes against important fungal pathogens </a:t>
            </a:r>
            <a:r>
              <a:rPr b="0" i="1" lang="en-US" sz="3200" spc="-1" strike="noStrike">
                <a:solidFill>
                  <a:srgbClr val="0000cc"/>
                </a:solidFill>
                <a:latin typeface="Book Antiqua"/>
              </a:rPr>
              <a:t>Sclerotium rolfsii, Fusarium oxysporum </a:t>
            </a: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f. sp</a:t>
            </a:r>
            <a:r>
              <a:rPr b="0" i="1" lang="en-US" sz="3200" spc="-1" strike="noStrike">
                <a:solidFill>
                  <a:srgbClr val="0000cc"/>
                </a:solidFill>
                <a:latin typeface="Book Antiqua"/>
              </a:rPr>
              <a:t> ciceri </a:t>
            </a: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(FOC),</a:t>
            </a:r>
            <a:r>
              <a:rPr b="0" i="1" lang="en-US" sz="3200" spc="-1" strike="noStrike">
                <a:solidFill>
                  <a:srgbClr val="0000cc"/>
                </a:solidFill>
                <a:latin typeface="Book Antiqua"/>
              </a:rPr>
              <a:t> Rhizoctonia bataticola </a:t>
            </a: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(3 strains, RB-6, -24 and -115), </a:t>
            </a:r>
            <a:r>
              <a:rPr b="0" i="1" lang="en-US" sz="3200" spc="-1" strike="noStrike">
                <a:solidFill>
                  <a:srgbClr val="0000cc"/>
                </a:solidFill>
                <a:latin typeface="Book Antiqua"/>
              </a:rPr>
              <a:t>Fusarium andiyazi </a:t>
            </a: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(FM943),</a:t>
            </a:r>
            <a:r>
              <a:rPr b="0" i="1" lang="en-US" sz="3200" spc="-1" strike="noStrike">
                <a:solidFill>
                  <a:srgbClr val="0000cc"/>
                </a:solidFill>
                <a:latin typeface="Book Antiqua"/>
              </a:rPr>
              <a:t> Fusarium proliferatum </a:t>
            </a: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(FM-242), </a:t>
            </a:r>
            <a:r>
              <a:rPr b="0" i="1" lang="en-US" sz="3200" spc="-1" strike="noStrike">
                <a:solidFill>
                  <a:srgbClr val="0000cc"/>
                </a:solidFill>
                <a:latin typeface="Book Antiqua"/>
              </a:rPr>
              <a:t>Macrophomina phaseolina </a:t>
            </a: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(MP) and insectpest of chickpea, </a:t>
            </a:r>
            <a:r>
              <a:rPr b="0" i="1" lang="en-US" sz="3200" spc="-1" strike="noStrike">
                <a:solidFill>
                  <a:srgbClr val="0000cc"/>
                </a:solidFill>
                <a:latin typeface="Book Antiqua"/>
              </a:rPr>
              <a:t>Helicoverpa armigera,</a:t>
            </a: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 were stu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0000cc"/>
              </a:buClr>
              <a:buFont typeface="Book Antiqua"/>
              <a:buChar char="•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It is well known that bacteria and actinomycetes found most common in compost and rhizosphere soils. Hence five different herbal vermicompost such as Neem, </a:t>
            </a:r>
            <a:r>
              <a:rPr b="0" i="1" lang="en-US" sz="3200" spc="-1" strike="noStrike">
                <a:solidFill>
                  <a:srgbClr val="0000cc"/>
                </a:solidFill>
                <a:latin typeface="Book Antiqua"/>
              </a:rPr>
              <a:t>Annona, Gliricidia, Jatropha, Parthenium</a:t>
            </a: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 and rhizosphere soils from organic fields were selected for isolating the microb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0000cc"/>
              </a:buClr>
              <a:buFont typeface="Book Antiqua"/>
              <a:buChar char="•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Bacteria and actinomycetes isolated from above sources were characterized for their antagonistic activity against fugal pathogens and insect pests of chickpea. Most potential cultures will be further characterized for </a:t>
            </a:r>
            <a:r>
              <a:rPr b="0" i="1" lang="en-US" sz="3200" spc="-1" strike="noStrike">
                <a:solidFill>
                  <a:srgbClr val="0000cc"/>
                </a:solidFill>
                <a:latin typeface="Book Antiqua"/>
              </a:rPr>
              <a:t>in-vitro</a:t>
            </a: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 PGP and biocontrol tra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16799040"/>
            <a:ext cx="251460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Book Antiqua"/>
              </a:rPr>
              <a:t>Charcoal r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2226456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57600"/>
                <a:tab algn="l" pos="73152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Book Antiqua"/>
              </a:rPr>
              <a:t>Dry root r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01800" y="2971440"/>
            <a:ext cx="133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Book Antiqua"/>
                <a:ea typeface="MS PGothic"/>
              </a:rPr>
              <a:t>Different bacterial isolates inhibiting fungal pathoge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12908160"/>
            <a:ext cx="1226844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Book Antiqua"/>
                <a:ea typeface="MS PGothic"/>
              </a:rPr>
              <a:t>Objective</a:t>
            </a:r>
            <a:r>
              <a:rPr b="1" lang="en-US" sz="5400" spc="-1" strike="noStrike">
                <a:solidFill>
                  <a:srgbClr val="cc0066"/>
                </a:solidFill>
                <a:latin typeface="Book Antiqua"/>
                <a:ea typeface="MS PGoth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The main objective of the present investigation is to isolate and identify the active compounds responsible for the inhibition of the fungal pathogens and </a:t>
            </a:r>
            <a:r>
              <a:rPr b="0" i="1" lang="en-US" sz="3200" spc="-1" strike="noStrike">
                <a:solidFill>
                  <a:srgbClr val="0000cc"/>
                </a:solidFill>
                <a:latin typeface="Book Antiqua"/>
              </a:rPr>
              <a:t>H. armigera</a:t>
            </a: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 from the potential antagonistic microbes and entomopath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335120" y="23134680"/>
            <a:ext cx="1424916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3657600"/>
                <a:tab algn="l" pos="73152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Book Antiqua"/>
              </a:rPr>
              <a:t>Results and Discu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0000cc"/>
              </a:buClr>
              <a:buFont typeface="Book Antiqua"/>
              <a:buChar char="•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Out of 88 actinomycetes isolated, 55, 45, 58 and 37 isolates inhibited MP, Rb-6, Rb-24 and Rb-115 respectively;</a:t>
            </a:r>
            <a:r>
              <a:rPr b="0" i="1" lang="en-US" sz="3200" spc="-1" strike="noStrike">
                <a:solidFill>
                  <a:srgbClr val="0000cc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33, 36, 13 and 13 isolates inhibited FOC, FM-242, FM-943 and </a:t>
            </a:r>
            <a:r>
              <a:rPr b="0" i="1" lang="en-US" sz="3200" spc="-1" strike="noStrike">
                <a:solidFill>
                  <a:srgbClr val="0000cc"/>
                </a:solidFill>
                <a:latin typeface="Book Antiqua"/>
              </a:rPr>
              <a:t>S. rolfsii</a:t>
            </a: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 respectiv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0000cc"/>
              </a:buClr>
              <a:buFont typeface="Book Antiqua"/>
              <a:buChar char="•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From 72 bacteria isolated, 28, 25, 29 and 10 isolates inhibited MP, Rb-6, Rb-24 and Rb-115 respectively;</a:t>
            </a:r>
            <a:r>
              <a:rPr b="0" i="1" lang="en-US" sz="3200" spc="-1" strike="noStrike">
                <a:solidFill>
                  <a:srgbClr val="0000cc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31, 31, 5 and 22 isolates inhibited FOC, FM-242, FM-943 and </a:t>
            </a:r>
            <a:r>
              <a:rPr b="0" i="1" lang="en-US" sz="3200" spc="-1" strike="noStrike">
                <a:solidFill>
                  <a:srgbClr val="0000cc"/>
                </a:solidFill>
                <a:latin typeface="Book Antiqua"/>
              </a:rPr>
              <a:t>S. rolfsii</a:t>
            </a: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 respective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0000cc"/>
              </a:buClr>
              <a:buFont typeface="Book Antiqua"/>
              <a:buChar char="•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The most promising isolates (20) were further evaluated for their PGP and biocontrol traits. The results indicated that xx, xx and xx were shown positive for chitinase, protease, lipase, respectiv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2285440"/>
            <a:ext cx="32767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Book Antiqua"/>
              </a:rPr>
              <a:t>Botrytis gray m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3546960"/>
            <a:ext cx="29260800" cy="1222920"/>
          </a:xfrm>
          <a:prstGeom prst="rect">
            <a:avLst/>
          </a:prstGeom>
          <a:solidFill>
            <a:srgbClr val="009a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4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ff9900"/>
                </a:solidFill>
                <a:latin typeface="Book Antiqua"/>
              </a:rPr>
              <a:t>          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28095480"/>
            <a:ext cx="1234440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Book Antiqua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cc"/>
              </a:buClr>
              <a:buFont typeface="Book Antiqua"/>
              <a:buChar char="•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Bacteria and actinomycetes were isolated from five herbal vermicomposts and rhizosphere soil from organic field by serial dilution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cc"/>
              </a:buClr>
              <a:buFont typeface="Book Antiqua"/>
              <a:buChar char="•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Antagonistic activity of the cultures were evaluated by dual culture as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cc"/>
              </a:buClr>
              <a:buFont typeface="Book Antiqua"/>
              <a:buChar char="•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The promising antagonistic cultures were further characterized for their PGP and biochemical tra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7"/>
          <p:cNvSpPr/>
          <p:nvPr/>
        </p:nvSpPr>
        <p:spPr>
          <a:xfrm>
            <a:off x="0" y="32994720"/>
            <a:ext cx="29260800" cy="1752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1"/>
          <a:srcRect l="0" t="12782" r="0" b="0"/>
          <a:stretch/>
        </p:blipFill>
        <p:spPr>
          <a:xfrm>
            <a:off x="7894800" y="33070680"/>
            <a:ext cx="13439520" cy="1622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" y="167641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Book Antiqua"/>
              </a:rPr>
              <a:t>Fusarium wi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849000"/>
            <a:ext cx="1196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Book Antiqua"/>
                <a:ea typeface="MS PGothic"/>
              </a:rPr>
              <a:t>Various fungal diseases of Chickp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2120" y="17297280"/>
            <a:ext cx="3192480" cy="4953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38080" y="22860000"/>
            <a:ext cx="3121200" cy="4876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089760" y="17373600"/>
            <a:ext cx="3054240" cy="4800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935680" y="22860000"/>
            <a:ext cx="3208320" cy="4952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23850720" y="3976560"/>
            <a:ext cx="3124080" cy="3110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20497680" y="3962520"/>
            <a:ext cx="304344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17297280" y="3962520"/>
            <a:ext cx="313056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14173200" y="3962520"/>
            <a:ext cx="2868480" cy="32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4478120" y="10210680"/>
          <a:ext cx="6781680" cy="367524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478120" y="10210680"/>
                    <a:ext cx="678168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4249520" y="14935320"/>
          <a:ext cx="12191760" cy="6035400"/>
        </p:xfrm>
        <a:graphic>
          <a:graphicData uri="http://schemas.openxmlformats.org/presentationml/2006/ole">
            <p:oleObj progId="Excel.Sheet.12" r:id="rId1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249520" y="14935320"/>
                    <a:ext cx="12191760" cy="60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14020920" y="7288560"/>
            <a:ext cx="281916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Book Antiqua"/>
              </a:rPr>
              <a:t>FM-943 Vs SBI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145000" y="7274520"/>
            <a:ext cx="304812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Book Antiqua"/>
              </a:rPr>
              <a:t>FOC V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Book Antiqua"/>
              </a:rPr>
              <a:t>SBI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497680" y="7274520"/>
            <a:ext cx="327672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Book Antiqua"/>
              </a:rPr>
              <a:t>Rb-6 V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Book Antiqua"/>
              </a:rPr>
              <a:t>SBI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003000" y="7274520"/>
            <a:ext cx="327672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66"/>
                </a:solidFill>
                <a:latin typeface="Book Antiqua"/>
              </a:rPr>
              <a:t>S. rolfsii</a:t>
            </a:r>
            <a:r>
              <a:rPr b="0" lang="en-US" sz="3200" spc="-1" strike="noStrike">
                <a:solidFill>
                  <a:srgbClr val="cc0066"/>
                </a:solidFill>
                <a:latin typeface="Book Antiqua"/>
              </a:rPr>
              <a:t> V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Book Antiqua"/>
              </a:rPr>
              <a:t>VBI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182480" y="29094120"/>
            <a:ext cx="1470672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Book Antiqua"/>
              </a:rPr>
              <a:t>Future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Purification of active compound (s) from the culture filtra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Physiological characteristics of the promising cul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Green house and field evaluation of the promising cultures and their metabol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406760" y="9244440"/>
            <a:ext cx="1482012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Book Antiqua"/>
              </a:rPr>
              <a:t>No of actinomycetes isolates antogonistic to different fungal path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944600" y="14262480"/>
            <a:ext cx="1424952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Book Antiqua"/>
              </a:rPr>
              <a:t>No of bacterial isolates antogonistic to different fungal path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03:04:54Z</dcterms:created>
  <dc:creator>Pvsprasad</dc:creator>
  <dc:description/>
  <dc:language>en-US</dc:language>
  <cp:lastModifiedBy>sgopalakrishnan</cp:lastModifiedBy>
  <dcterms:modified xsi:type="dcterms:W3CDTF">2011-11-29T04:09:29Z</dcterms:modified>
  <cp:revision>233</cp:revision>
  <dc:subject/>
  <dc:title>Exploring soil biology to understand high yields due to SRI method of cultivation</dc:title>
</cp:coreProperties>
</file>