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47472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949D-1764-407A-9036-76BC75DDB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B972-3AC7-40DC-A59E-CD938C34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CDBD-B008-4DC1-8B41-5DE2D63DE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65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11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19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65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11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F99-E95B-4A60-96B2-00ECA692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4FD-4173-49DA-8603-E37BAE7B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4F2-B424-43DE-A762-A3E86D6F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01E8-9493-4630-8D09-2D99FD8C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F5AA-782D-4724-A6FC-9D5D4871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1960" y="1390320"/>
            <a:ext cx="2633688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D662-C8E0-4F66-A8F0-9AA5E5D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3EE7-7F51-4E98-86DF-3A1321B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8C1-318F-4D2E-8BBF-FC6BD627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015-BA5D-4EDB-B1D8-268BACE4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160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6480" y="31642200"/>
            <a:ext cx="926784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6892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18E7-D039-451F-9710-28377F225832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0"/>
            <a:ext cx="29260800" cy="2549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Book Antiqua"/>
              </a:rPr>
              <a:t>Actinomycetes and their secondary metabolites to control multiple pathogens of chickpea and sorgh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Book Antiqua"/>
              </a:rPr>
              <a:t>S. Gopalakrishnan* and GV Ranga Rao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 Antiqua"/>
              </a:rPr>
              <a:t>ICRISAT, Patancheru, Hyderabad, Andhra Pradesh,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1"/>
          <p:cNvSpPr/>
          <p:nvPr/>
        </p:nvSpPr>
        <p:spPr>
          <a:xfrm>
            <a:off x="16230600" y="32384880"/>
            <a:ext cx="115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i="1" lang="en-US" sz="2200" spc="-1" strike="noStrike">
                <a:solidFill>
                  <a:srgbClr val="d62900"/>
                </a:solidFill>
                <a:latin typeface="Book Antiqua"/>
              </a:rPr>
              <a:t>*</a:t>
            </a:r>
            <a:r>
              <a:rPr b="1" i="1" lang="en-US" sz="3600" spc="-1" strike="noStrike">
                <a:solidFill>
                  <a:srgbClr val="d62900"/>
                </a:solidFill>
                <a:latin typeface="Book Antiqua"/>
              </a:rPr>
              <a:t>Corresponding author: s.gopalakrishnan@cgi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3317200" y="1280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26669880" y="1295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1"/>
          <p:cNvSpPr/>
          <p:nvPr/>
        </p:nvSpPr>
        <p:spPr>
          <a:xfrm>
            <a:off x="1800" y="15147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2"/>
          <p:cNvSpPr/>
          <p:nvPr/>
        </p:nvSpPr>
        <p:spPr>
          <a:xfrm>
            <a:off x="1440" y="17202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3"/>
          <p:cNvSpPr/>
          <p:nvPr/>
        </p:nvSpPr>
        <p:spPr>
          <a:xfrm>
            <a:off x="1440" y="192780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9"/>
          <p:cNvSpPr/>
          <p:nvPr/>
        </p:nvSpPr>
        <p:spPr>
          <a:xfrm>
            <a:off x="1440" y="15075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0"/>
          <p:cNvSpPr/>
          <p:nvPr/>
        </p:nvSpPr>
        <p:spPr>
          <a:xfrm>
            <a:off x="1800" y="172173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1"/>
          <p:cNvSpPr/>
          <p:nvPr/>
        </p:nvSpPr>
        <p:spPr>
          <a:xfrm>
            <a:off x="1440" y="19368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6"/>
          <p:cNvSpPr/>
          <p:nvPr/>
        </p:nvSpPr>
        <p:spPr>
          <a:xfrm>
            <a:off x="0" y="1283328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7"/>
          <p:cNvSpPr/>
          <p:nvPr/>
        </p:nvSpPr>
        <p:spPr>
          <a:xfrm>
            <a:off x="1440" y="14889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8"/>
          <p:cNvSpPr/>
          <p:nvPr/>
        </p:nvSpPr>
        <p:spPr>
          <a:xfrm>
            <a:off x="1800" y="172314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9"/>
          <p:cNvSpPr/>
          <p:nvPr/>
        </p:nvSpPr>
        <p:spPr>
          <a:xfrm>
            <a:off x="1800" y="19573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33"/>
          <p:cNvSpPr/>
          <p:nvPr/>
        </p:nvSpPr>
        <p:spPr>
          <a:xfrm>
            <a:off x="228600" y="2666880"/>
            <a:ext cx="15544800" cy="3567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0048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INTRODUCTION</a:t>
            </a:r>
            <a:r>
              <a:rPr b="0" lang="en-US" sz="3200" spc="-1" strike="noStrike">
                <a:solidFill>
                  <a:srgbClr val="cc33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the present study, 25 different herbal vermicomposts were screened for actinomycetes that contain antifungal potential agains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usari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lt and collar rot of chickpea (caused b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usarium oxyspor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. sp.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cicer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clerotium rolfs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respectively) and charcoal rot of sorghum (caused b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Macrophomina phaseolin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 and anti-insect potential agains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elicoverpa armig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the polyphagous pest of many crops. The promising ones were selected further for metabolite purification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164"/>
          <p:cNvSpPr/>
          <p:nvPr/>
        </p:nvSpPr>
        <p:spPr>
          <a:xfrm>
            <a:off x="14687640" y="29432160"/>
            <a:ext cx="14373000" cy="39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93"/>
          <p:cNvSpPr/>
          <p:nvPr/>
        </p:nvSpPr>
        <p:spPr>
          <a:xfrm>
            <a:off x="0" y="33546960"/>
            <a:ext cx="29260800" cy="1222920"/>
          </a:xfrm>
          <a:prstGeom prst="rect">
            <a:avLst/>
          </a:prstGeom>
          <a:solidFill>
            <a:srgbClr val="009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9900"/>
                </a:solidFill>
                <a:latin typeface="Book Antiqua"/>
              </a:rPr>
              <a:t>          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898"/>
          <p:cNvSpPr/>
          <p:nvPr/>
        </p:nvSpPr>
        <p:spPr>
          <a:xfrm>
            <a:off x="228600" y="5943600"/>
            <a:ext cx="15544800" cy="40546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82600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MATERIAL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Prominent actinomycetes isolated with SCA by spread plate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In-vitro antifungal activity by dual-culture assay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In-vivo anti-insect activity by bioassay (on 3</a:t>
            </a:r>
            <a:r>
              <a:rPr b="0" lang="en-US" sz="3200" spc="-1" strike="noStrike" baseline="30000">
                <a:solidFill>
                  <a:srgbClr val="000066"/>
                </a:solidFill>
                <a:latin typeface="Book Antiqua"/>
              </a:rPr>
              <a:t>rd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 instar 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Helicoverpa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 larv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Evaluated for PGP traits on respective selectiv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Actinomycetes identified by 16S rDN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Metabolite production capability by solvent partitioning and bioa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Partial purification done by SPE and open column chromatogra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899"/>
          <p:cNvSpPr/>
          <p:nvPr/>
        </p:nvSpPr>
        <p:spPr>
          <a:xfrm>
            <a:off x="304920" y="10210680"/>
            <a:ext cx="15468480" cy="649188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68360"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Three most promising actinomycetes (CAI-21, CAI-26 and MMA-32) based on biocontrol and PGP traits were further stu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AI-21 was identified as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treptomyces alb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while CAI-26 and MMA-32 were identified as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. champavat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. roseoviolae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resp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ulture filtrates of all the three actinomycetes completely inhibited FOC but no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M. phaseolina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ompletely. However, all the culture filtrates inhibited another pathogen of chickpea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clerotium rolfs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which causes collar r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ulture filtrates of all the actinomycetes showed 58-78% mortality over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Upon further fractionation of the culture filtrates of one of the actinomycetes (CAI-21) by open column chromatography, only 80% MeOH fraction showed inhibition of FO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7"/>
          <p:cNvSpPr/>
          <p:nvPr/>
        </p:nvSpPr>
        <p:spPr>
          <a:xfrm>
            <a:off x="0" y="32994720"/>
            <a:ext cx="2926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0" t="12782" r="0" b="0"/>
          <a:stretch/>
        </p:blipFill>
        <p:spPr>
          <a:xfrm>
            <a:off x="7894800" y="33070680"/>
            <a:ext cx="13439520" cy="1622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143"/>
          <p:cNvSpPr/>
          <p:nvPr/>
        </p:nvSpPr>
        <p:spPr>
          <a:xfrm>
            <a:off x="457200" y="21031200"/>
            <a:ext cx="1257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Molecular identification of the potential actinomyc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2433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2235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A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30600" y="2270160"/>
            <a:ext cx="12801600" cy="4542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  <a:ea typeface="MS PGothic"/>
              </a:rPr>
              <a:t>The list of herbal vermicomposts used in this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Jatropha curca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Annona squamos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Parthenium hysterophor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Oryza sativ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Gliricidia sepi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dhatoda vas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zadirachta ind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psicum annu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lotropis gigante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lotropis proc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Datura met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llium sativ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Zingiber officinal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Ipomoea batata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Momordica charanti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Moringa oleif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rgyranthemum frutesce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Nerium indic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llium cep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urcuma aromat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Pongamia pinnat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bacopteris multilineat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Nicotiana tabac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Tridax procumben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Vitex negundo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33320" y="6705720"/>
            <a:ext cx="125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70760" y="13182480"/>
            <a:ext cx="133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S. rolf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382880" y="20193120"/>
          <a:ext cx="12649320" cy="573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2880" y="20193120"/>
                    <a:ext cx="126493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5695640" y="19703880"/>
            <a:ext cx="141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H. armi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306920" y="7162920"/>
          <a:ext cx="12573000" cy="596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6920" y="7162920"/>
                    <a:ext cx="125730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306920" y="13639680"/>
          <a:ext cx="12648960" cy="59976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306920" y="13639680"/>
                    <a:ext cx="1264896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26966880"/>
          <a:ext cx="12420720" cy="6027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26966880"/>
                    <a:ext cx="1242072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25936560"/>
            <a:ext cx="144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Fractionation of culture filtrates of CAI-21 on an open colum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chromatography: 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21717000"/>
          <a:ext cx="13868280" cy="3885840"/>
        </p:xfrm>
        <a:graphic>
          <a:graphicData uri="http://schemas.openxmlformats.org/drawingml/2006/table">
            <a:tbl>
              <a:tblPr/>
              <a:tblGrid>
                <a:gridCol w="2440800"/>
                <a:gridCol w="7010640"/>
                <a:gridCol w="4416840"/>
              </a:tblGrid>
              <a:tr h="71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ai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atched wit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BAIM ACC N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AI-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l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AI-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hampavat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MA-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oseoviolae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380880" y="16916400"/>
            <a:ext cx="15392520" cy="408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28800" y="16382880"/>
            <a:ext cx="108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Biocontrol and PGP traits of the actinomyc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13182480" y="27051120"/>
            <a:ext cx="4648320" cy="456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17907120" y="2705112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23240880" y="27051120"/>
            <a:ext cx="5334120" cy="454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717160" y="316072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43000" y="3162924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M. phase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961560" y="3170556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S. rolf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83720" y="26425440"/>
            <a:ext cx="137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 of CAI-21 on various path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04:54Z</dcterms:created>
  <dc:creator>Pvsprasad</dc:creator>
  <dc:description/>
  <dc:language>en-US</dc:language>
  <cp:lastModifiedBy>sgopalakrishnan</cp:lastModifiedBy>
  <dcterms:modified xsi:type="dcterms:W3CDTF">2011-12-08T05:51:33Z</dcterms:modified>
  <cp:revision>266</cp:revision>
  <dc:subject/>
  <dc:title>Exploring soil biology to understand high yields due to SRI method of cultivation</dc:title>
</cp:coreProperties>
</file>