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9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260800" cy="34747200"/>
  <p:notesSz cx="7077075" cy="9050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7980-0BEF-4FA0-BC75-22BD3E5D3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61960" y="2008476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C652-7752-44BB-942B-26597D7B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95728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BADF-A765-4F94-9681-7581642C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3665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2711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619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3665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2711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5D74-6708-451E-A4FA-C72F85A0C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374-E655-4F79-82F8-1C110349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405-5DA1-4E35-9629-4BF09A45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9AF-11F2-41C8-8207-77824781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FEA-01EC-44E4-8B98-DBD7C12F5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61960" y="1390320"/>
            <a:ext cx="26336880" cy="268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C26-EE2D-46CA-B53B-4EA78BE0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912-BCBF-49D8-849A-B50A700B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95728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1190-D8FE-419F-88AF-5B174C12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CF0-647B-4D42-B784-25272C11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61600" y="31642200"/>
            <a:ext cx="682956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96480" y="31642200"/>
            <a:ext cx="926784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968920" y="31642200"/>
            <a:ext cx="682956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4E2B-1F83-4B44-B721-DD86F0BDCA3F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4.wmf"/><Relationship Id="rId8" Type="http://schemas.openxmlformats.org/officeDocument/2006/relationships/package" Target="../embeddings/oleObject4.xlsx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0"/>
          <p:cNvSpPr/>
          <p:nvPr/>
        </p:nvSpPr>
        <p:spPr>
          <a:xfrm>
            <a:off x="0" y="0"/>
            <a:ext cx="29260800" cy="25495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Book Antiqua"/>
              </a:rPr>
              <a:t>Actinomycetes and their secondary metabolites to control multiple pathogens of chickpea and sorgh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Book Antiqua"/>
              </a:rPr>
              <a:t> </a:t>
            </a:r>
            <a:r>
              <a:rPr b="1" lang="en-US" sz="4000" spc="-1" strike="noStrike">
                <a:solidFill>
                  <a:srgbClr val="6600cc"/>
                </a:solidFill>
                <a:latin typeface="Book Antiqua"/>
              </a:rPr>
              <a:t>S. Gopalakrishnan* and GV Ranga Rao</a:t>
            </a:r>
            <a:r>
              <a:rPr b="1" lang="en-US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 Antiqua"/>
              </a:rPr>
              <a:t>ICRISAT, Patancheru, Hyderabad, Andhra Pradesh, Ind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1"/>
          <p:cNvSpPr/>
          <p:nvPr/>
        </p:nvSpPr>
        <p:spPr>
          <a:xfrm>
            <a:off x="16230600" y="32384880"/>
            <a:ext cx="115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i="1" lang="en-US" sz="2200" spc="-1" strike="noStrike">
                <a:solidFill>
                  <a:srgbClr val="d62900"/>
                </a:solidFill>
                <a:latin typeface="Book Antiqua"/>
              </a:rPr>
              <a:t>*</a:t>
            </a:r>
            <a:r>
              <a:rPr b="1" i="1" lang="en-US" sz="3600" spc="-1" strike="noStrike">
                <a:solidFill>
                  <a:srgbClr val="d62900"/>
                </a:solidFill>
                <a:latin typeface="Book Antiqua"/>
              </a:rPr>
              <a:t>Corresponding author: s.gopalakrishnan@cgiar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3"/>
          <p:cNvSpPr/>
          <p:nvPr/>
        </p:nvSpPr>
        <p:spPr>
          <a:xfrm>
            <a:off x="23317200" y="1280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4"/>
          <p:cNvSpPr/>
          <p:nvPr/>
        </p:nvSpPr>
        <p:spPr>
          <a:xfrm>
            <a:off x="26669880" y="12953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1"/>
          <p:cNvSpPr/>
          <p:nvPr/>
        </p:nvSpPr>
        <p:spPr>
          <a:xfrm>
            <a:off x="1800" y="15147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2"/>
          <p:cNvSpPr/>
          <p:nvPr/>
        </p:nvSpPr>
        <p:spPr>
          <a:xfrm>
            <a:off x="1440" y="17202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3"/>
          <p:cNvSpPr/>
          <p:nvPr/>
        </p:nvSpPr>
        <p:spPr>
          <a:xfrm>
            <a:off x="1440" y="192780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9"/>
          <p:cNvSpPr/>
          <p:nvPr/>
        </p:nvSpPr>
        <p:spPr>
          <a:xfrm>
            <a:off x="1440" y="150757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0"/>
          <p:cNvSpPr/>
          <p:nvPr/>
        </p:nvSpPr>
        <p:spPr>
          <a:xfrm>
            <a:off x="1800" y="1721736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1"/>
          <p:cNvSpPr/>
          <p:nvPr/>
        </p:nvSpPr>
        <p:spPr>
          <a:xfrm>
            <a:off x="1440" y="19368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6"/>
          <p:cNvSpPr/>
          <p:nvPr/>
        </p:nvSpPr>
        <p:spPr>
          <a:xfrm>
            <a:off x="0" y="12833280"/>
            <a:ext cx="2926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7"/>
          <p:cNvSpPr/>
          <p:nvPr/>
        </p:nvSpPr>
        <p:spPr>
          <a:xfrm>
            <a:off x="1440" y="14889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8"/>
          <p:cNvSpPr/>
          <p:nvPr/>
        </p:nvSpPr>
        <p:spPr>
          <a:xfrm>
            <a:off x="1800" y="172314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9"/>
          <p:cNvSpPr/>
          <p:nvPr/>
        </p:nvSpPr>
        <p:spPr>
          <a:xfrm>
            <a:off x="1800" y="195732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33"/>
          <p:cNvSpPr/>
          <p:nvPr/>
        </p:nvSpPr>
        <p:spPr>
          <a:xfrm>
            <a:off x="228600" y="2666880"/>
            <a:ext cx="15544800" cy="356724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40048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INTRODUCTION</a:t>
            </a:r>
            <a:r>
              <a:rPr b="0" lang="en-US" sz="3200" spc="-1" strike="noStrike">
                <a:solidFill>
                  <a:srgbClr val="cc33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In the present study, 25 different herbal vermicomposts were screened for actinomycetes that contain antifungal potential against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Fusari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wilt and collar rot of chickpea (caused by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Fusarium oxyspor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f. sp.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ciceri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Sclerotium rolfsii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respectively) and charcoal rot of sorghum (caused by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Macrophomina phaseolin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) and anti-insect potential against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</a:rPr>
              <a:t>Helicoverpa armiger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, the polyphagous pest of many crops. The promising ones were selected further for metabolite purification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164"/>
          <p:cNvSpPr/>
          <p:nvPr/>
        </p:nvSpPr>
        <p:spPr>
          <a:xfrm>
            <a:off x="14687640" y="29432160"/>
            <a:ext cx="14373000" cy="39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93"/>
          <p:cNvSpPr/>
          <p:nvPr/>
        </p:nvSpPr>
        <p:spPr>
          <a:xfrm>
            <a:off x="0" y="33546960"/>
            <a:ext cx="29260800" cy="1222920"/>
          </a:xfrm>
          <a:prstGeom prst="rect">
            <a:avLst/>
          </a:prstGeom>
          <a:solidFill>
            <a:srgbClr val="009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ff9900"/>
                </a:solidFill>
                <a:latin typeface="Book Antiqua"/>
              </a:rPr>
              <a:t>          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898"/>
          <p:cNvSpPr/>
          <p:nvPr/>
        </p:nvSpPr>
        <p:spPr>
          <a:xfrm>
            <a:off x="228600" y="5943600"/>
            <a:ext cx="15544800" cy="40546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7760" indent="-282600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MATERIALS AND METHO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Prominent actinomycetes isolated with SCA by spread plate meth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  <a:ea typeface="MS PGothic"/>
              </a:rPr>
              <a:t>In-vitro antifungal activity by dual-culture assay</a:t>
            </a: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In-vivo anti-insect activity by bioassay (on 3</a:t>
            </a:r>
            <a:r>
              <a:rPr b="0" lang="en-US" sz="3200" spc="-1" strike="noStrike" baseline="30000">
                <a:solidFill>
                  <a:srgbClr val="000066"/>
                </a:solidFill>
                <a:latin typeface="Book Antiqua"/>
              </a:rPr>
              <a:t>rd</a:t>
            </a: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 instar </a:t>
            </a:r>
            <a:r>
              <a:rPr b="0" i="1" lang="en-US" sz="3200" spc="-1" strike="noStrike">
                <a:solidFill>
                  <a:srgbClr val="000066"/>
                </a:solidFill>
                <a:latin typeface="Book Antiqua"/>
              </a:rPr>
              <a:t>Helicoverpa</a:t>
            </a: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 larva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Evaluated for PGP traits on respective selective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</a:rPr>
              <a:t>Actinomycetes identified by 16S rDNA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  <a:ea typeface="MS PGothic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Book Antiqua"/>
                <a:ea typeface="MS PGothic"/>
              </a:rPr>
              <a:t>Metabolite production capability by solvent partitioning and bioa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7760" indent="-282600">
              <a:lnSpc>
                <a:spcPct val="100000"/>
              </a:lnSpc>
              <a:buClr>
                <a:srgbClr val="000066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Book Antiqua"/>
                <a:ea typeface="MS PGothic"/>
              </a:rPr>
              <a:t>Partial purification done by SPE and open column chromatograph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899"/>
          <p:cNvSpPr/>
          <p:nvPr/>
        </p:nvSpPr>
        <p:spPr>
          <a:xfrm>
            <a:off x="304920" y="10210680"/>
            <a:ext cx="15468480" cy="6491880"/>
          </a:xfrm>
          <a:prstGeom prst="rect">
            <a:avLst/>
          </a:prstGeom>
          <a:solidFill>
            <a:srgbClr val="d3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360" indent="-468360"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Three most promising actinomycetes (CAI-21, CAI-26 and MMA-32) based on biocontrol and PGP traits were further stud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CAI-21 was identified as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Streptomyces albu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 while CAI-26 and MMA-32 were identified as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S. champavatii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S. roseoviolaeu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 resp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Culture filtrates of all the three actinomycetes completely inhibited FOC but not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M. phaseolina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completely. However, all the culture filtrates inhibited another pathogen of chickpea,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Sclerotium rolfsii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which causes collar ro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Culture filtrates of all the actinomycetes showed 58-78% mortality over contr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8360" indent="-46836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Upon further fractionation of the culture filtrates of one of the actinomycetes (CAI-21) by open column chromatography, only 80% MeOH fraction showed inhibition of FO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57"/>
          <p:cNvSpPr/>
          <p:nvPr/>
        </p:nvSpPr>
        <p:spPr>
          <a:xfrm>
            <a:off x="0" y="32994720"/>
            <a:ext cx="29260800" cy="1752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" descr=""/>
          <p:cNvPicPr/>
          <p:nvPr/>
        </p:nvPicPr>
        <p:blipFill>
          <a:blip r:embed="rId1"/>
          <a:srcRect l="0" t="12782" r="0" b="0"/>
          <a:stretch/>
        </p:blipFill>
        <p:spPr>
          <a:xfrm>
            <a:off x="7894800" y="33070680"/>
            <a:ext cx="13439520" cy="1622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143"/>
          <p:cNvSpPr/>
          <p:nvPr/>
        </p:nvSpPr>
        <p:spPr>
          <a:xfrm>
            <a:off x="457200" y="21031200"/>
            <a:ext cx="1257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Molecular identification of the potential actinomyc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90720" y="224330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29600" y="2235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CA1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30600" y="2270160"/>
            <a:ext cx="12801600" cy="4542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  <a:ea typeface="MS PGothic"/>
              </a:rPr>
              <a:t>The list of herbal vermicomposts used in this stu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Jatropha curca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Annona squamos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Parthenium hysterophoru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Oryza sativ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Gliricidia sepi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dhatoda vasic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zadirachta indic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Capsicum annu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Calotropis gigante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Calotropis procer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Datura metal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llium sativ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Zingiber officinale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Ipomoea batata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Momordica charanti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Moringa oleifer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rgyranthemum frutescens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Nerium indic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llium cep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Curcuma aromatic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Pongamia pinnat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Abacopteris multilineata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Nicotiana tabacum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Tridax procumbens 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Vitex negundo</a:t>
            </a: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MS P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033320" y="6705720"/>
            <a:ext cx="125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The effect of culture filtrates of actinomycetes on F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070760" y="13182480"/>
            <a:ext cx="133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The effect of culture filtrates of actinomycetes on </a:t>
            </a:r>
            <a:r>
              <a:rPr b="1" i="1" lang="en-US" sz="3600" spc="-1" strike="noStrike">
                <a:solidFill>
                  <a:srgbClr val="cc3300"/>
                </a:solidFill>
                <a:latin typeface="Book Antiqua"/>
              </a:rPr>
              <a:t>S. rolfs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6382880" y="20193120"/>
          <a:ext cx="12649320" cy="5730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82880" y="20193120"/>
                    <a:ext cx="12649320" cy="57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5695640" y="19703880"/>
            <a:ext cx="141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The effect of culture filtrates of actinomycetes on </a:t>
            </a:r>
            <a:r>
              <a:rPr b="1" i="1" lang="en-US" sz="3600" spc="-1" strike="noStrike">
                <a:solidFill>
                  <a:srgbClr val="cc3300"/>
                </a:solidFill>
                <a:latin typeface="Book Antiqua"/>
              </a:rPr>
              <a:t>H. armig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6306920" y="7162920"/>
          <a:ext cx="12573000" cy="59608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6920" y="7162920"/>
                    <a:ext cx="12573000" cy="59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16306920" y="13639680"/>
          <a:ext cx="12648960" cy="59976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306920" y="13639680"/>
                    <a:ext cx="12648960" cy="59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7200" y="26966880"/>
          <a:ext cx="12420720" cy="602784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57200" y="26966880"/>
                    <a:ext cx="12420720" cy="602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533520" y="25936560"/>
            <a:ext cx="1440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Fractionation of culture filtrates of CAI-21 on an open colum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chromatography: on F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09480" y="21717000"/>
          <a:ext cx="13868280" cy="3885840"/>
        </p:xfrm>
        <a:graphic>
          <a:graphicData uri="http://schemas.openxmlformats.org/drawingml/2006/table">
            <a:tbl>
              <a:tblPr/>
              <a:tblGrid>
                <a:gridCol w="2440800"/>
                <a:gridCol w="7010640"/>
                <a:gridCol w="4416840"/>
              </a:tblGrid>
              <a:tr h="71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train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Matched wit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BAIM ACC N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AI-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treptomyces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alb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AIMCC-B-0108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5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AI-2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treptomyces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champavatii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AIMCC-B-0109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059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MMA-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Streptomyces</a:t>
                      </a: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 </a:t>
                      </a:r>
                      <a:r>
                        <a:rPr b="1" i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roseoviolaeu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6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NAIMCC-B-0109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380880" y="16916400"/>
            <a:ext cx="15392520" cy="4089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-28800" y="16382880"/>
            <a:ext cx="1085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Biocontrol and PGP traits of the actinomyce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13182480" y="27051120"/>
            <a:ext cx="4648320" cy="4565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17907120" y="27051120"/>
            <a:ext cx="525780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3"/>
          <a:stretch/>
        </p:blipFill>
        <p:spPr>
          <a:xfrm>
            <a:off x="23240880" y="27051120"/>
            <a:ext cx="5334120" cy="4543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717160" y="31607280"/>
            <a:ext cx="187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On FO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543000" y="31629240"/>
            <a:ext cx="399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On </a:t>
            </a:r>
            <a:r>
              <a:rPr b="1" i="1" lang="en-US" sz="3600" spc="-1" strike="noStrike">
                <a:solidFill>
                  <a:srgbClr val="cc3300"/>
                </a:solidFill>
                <a:latin typeface="Book Antiqua"/>
              </a:rPr>
              <a:t>M. phaseol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961560" y="31705560"/>
            <a:ext cx="27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On </a:t>
            </a:r>
            <a:r>
              <a:rPr b="1" i="1" lang="en-US" sz="3600" spc="-1" strike="noStrike">
                <a:solidFill>
                  <a:srgbClr val="cc3300"/>
                </a:solidFill>
                <a:latin typeface="Book Antiqua"/>
              </a:rPr>
              <a:t>S. rolfs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83720" y="26425440"/>
            <a:ext cx="137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Book Antiqua"/>
              </a:rPr>
              <a:t>The effect of culture filtrate of CAI-21 on various pathog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3:04:54Z</dcterms:created>
  <dc:creator>Pvsprasad</dc:creator>
  <dc:description/>
  <dc:language>en-US</dc:language>
  <cp:lastModifiedBy>sgopalakrishnan</cp:lastModifiedBy>
  <dcterms:modified xsi:type="dcterms:W3CDTF">2011-12-08T05:51:33Z</dcterms:modified>
  <cp:revision>266</cp:revision>
  <dc:subject/>
  <dc:title>Exploring soil biology to understand high yields due to SRI method of cultivation</dc:title>
</cp:coreProperties>
</file>